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B7F-FA34-4B0E-86E5-BB752E8C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BE7-B2F5-4D8C-9183-EB0EC305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05D-4066-45B0-98C4-C3BB4270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6FC-07C1-493D-BA02-FD37FDE2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140-1880-4FE6-80B6-5FA2B7FD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4D3-0263-4EB2-A8EA-399CB795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86D-22E8-4C6E-97BE-0CEB8DA1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F69-D53A-4DA6-B04B-735C448A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EBF-C76C-45C7-820A-5054F1E6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B4A-0DEF-4D4A-AA37-58473F8C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A80-6B4B-4D6B-A98F-5AF97FFF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E21-F88A-4D1A-8675-E123EFC1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90707-7D87-426A-93E1-FE9091C6522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404640" y="1625760"/>
            <a:ext cx="72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Life Sc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04640" y="3414600"/>
            <a:ext cx="682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What are we up to in 2013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>
            <a:off x="517680" y="2809800"/>
            <a:ext cx="7013520" cy="0"/>
          </a:xfrm>
          <a:prstGeom prst="line">
            <a:avLst/>
          </a:prstGeom>
          <a:ln w="25560">
            <a:solidFill>
              <a:srgbClr val="ffffff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451440" y="4581360"/>
            <a:ext cx="370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len Rob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len.robinson@manchester.ac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rk Hagon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rk.hagon@manchester.ac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1793880" y="6356520"/>
            <a:ext cx="555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06440" y="1625760"/>
            <a:ext cx="72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eb editing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06440" y="3368520"/>
            <a:ext cx="68212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we thought we needed 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ll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9"/>
          <p:cNvSpPr/>
          <p:nvPr/>
        </p:nvSpPr>
        <p:spPr>
          <a:xfrm>
            <a:off x="519120" y="2809800"/>
            <a:ext cx="7013520" cy="0"/>
          </a:xfrm>
          <a:prstGeom prst="line">
            <a:avLst/>
          </a:prstGeom>
          <a:ln w="25560">
            <a:solidFill>
              <a:srgbClr val="660066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TAB_col_white_background.eps"/>
          <p:cNvPicPr/>
          <p:nvPr/>
        </p:nvPicPr>
        <p:blipFill>
          <a:blip r:embed="rId1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12920" y="1298520"/>
            <a:ext cx="72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facebook.png"/>
          <p:cNvPicPr/>
          <p:nvPr/>
        </p:nvPicPr>
        <p:blipFill>
          <a:blip r:embed="rId3"/>
          <a:stretch/>
        </p:blipFill>
        <p:spPr>
          <a:xfrm>
            <a:off x="1863720" y="2084400"/>
            <a:ext cx="5416560" cy="4143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1874880" y="6424560"/>
            <a:ext cx="53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s://www.facebook.com/LifeSciencesManch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406440" y="1400040"/>
            <a:ext cx="72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lum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06440" y="2825640"/>
            <a:ext cx="799308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Columba’s XML to populate the current seminar pages on the Faculty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amline the process of semina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ial using Columba to manage news and other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9"/>
          <p:cNvSpPr/>
          <p:nvPr/>
        </p:nvSpPr>
        <p:spPr>
          <a:xfrm>
            <a:off x="519120" y="2403360"/>
            <a:ext cx="7013520" cy="0"/>
          </a:xfrm>
          <a:prstGeom prst="line">
            <a:avLst/>
          </a:prstGeom>
          <a:ln w="25560">
            <a:solidFill>
              <a:srgbClr val="660066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TAB_col_white_background.eps"/>
          <p:cNvPicPr/>
          <p:nvPr/>
        </p:nvPicPr>
        <p:blipFill>
          <a:blip r:embed="rId1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12920" y="1592280"/>
            <a:ext cx="72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edesign Faculty 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406440" y="3368520"/>
            <a:ext cx="6821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06440" y="3368520"/>
            <a:ext cx="682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urrent design is two years old – it’s time to review and rev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1"/>
          <p:cNvSpPr/>
          <p:nvPr/>
        </p:nvSpPr>
        <p:spPr>
          <a:xfrm>
            <a:off x="519120" y="2809800"/>
            <a:ext cx="7013520" cy="0"/>
          </a:xfrm>
          <a:prstGeom prst="line">
            <a:avLst/>
          </a:prstGeom>
          <a:ln w="25560">
            <a:solidFill>
              <a:srgbClr val="ffffff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51:07Z</dcterms:created>
  <dc:creator>Russell Hart</dc:creator>
  <dc:description/>
  <dc:language>en-US</dc:language>
  <cp:lastModifiedBy>mjrssfc</cp:lastModifiedBy>
  <dcterms:modified xsi:type="dcterms:W3CDTF">2013-04-16T12:18:22Z</dcterms:modified>
  <cp:revision>71</cp:revision>
  <dc:subject/>
  <dc:title>PowerPoint Presentation</dc:title>
</cp:coreProperties>
</file>